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1F7-EEED-4FE5-8689-42C8E887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3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A8D6-6BFA-42B9-B22A-45562C4B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28A-C1C4-4FF6-B0F6-6FD5642A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3291696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0240" y="15857640"/>
            <a:ext cx="3291696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61F-ED08-4A89-891E-52AC3C26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96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0240" y="158576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960" y="158576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2C8-2EA1-47C4-BAD5-4447DFE2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9640" y="64022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9040" y="64022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0240" y="158576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9640" y="158576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9040" y="15857640"/>
            <a:ext cx="1059912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68C-A665-44AC-AA1D-AF751A0D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0240" y="6402240"/>
            <a:ext cx="32916960" cy="181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75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840-6023-48C5-AF72-C17047A9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3291696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DB6-BE2C-475D-8FD7-2F3C4D4A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606320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960" y="6402240"/>
            <a:ext cx="1606320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780-CB4F-4D83-AA9A-E99A3977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998-853E-4F9D-A3C9-C1569561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0240" y="1100160"/>
            <a:ext cx="3291696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75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572-8987-4851-BD66-E1B7BB3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960" y="6402240"/>
            <a:ext cx="1606320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0240" y="158576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C8D-CCAC-46C9-88EC-ED516CE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606320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96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960" y="158576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2DA-1760-4EA0-9CE2-F58D17A6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024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960" y="6402240"/>
            <a:ext cx="1606320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0240" y="15857640"/>
            <a:ext cx="32916960" cy="8634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175"/>
              </a:spcBef>
              <a:buNone/>
              <a:tabLst>
                <a:tab algn="l" pos="3657600"/>
                <a:tab algn="l" pos="7315200"/>
              </a:tabLst>
            </a:pP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8F1-1497-454E-A496-E3053AC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0240" y="1100160"/>
            <a:ext cx="3291696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0240" y="6402240"/>
            <a:ext cx="32916960" cy="18102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175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1" marL="2970360" indent="-1141560">
              <a:spcBef>
                <a:spcPts val="3175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2" marL="4570560" indent="-912960">
              <a:spcBef>
                <a:spcPts val="3175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3" marL="6399360" indent="-912960">
              <a:spcBef>
                <a:spcPts val="3175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4" marL="8228160" indent="-914400">
              <a:spcBef>
                <a:spcPts val="3175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5" marL="8228160" indent="-914400">
              <a:spcBef>
                <a:spcPts val="3175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  <a:p>
            <a:pPr lvl="6" marL="8228160" indent="-914400">
              <a:spcBef>
                <a:spcPts val="3175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9880" y="25425000"/>
            <a:ext cx="853308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8120" y="25425000"/>
            <a:ext cx="1158084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4480" y="25425000"/>
            <a:ext cx="853272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ED8F-B48B-4017-8203-A3918AC7728B}" type="slidenum">
              <a:rPr b="0" lang="en-US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3040" y="1317600"/>
            <a:ext cx="3442824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ACTICAL EXPECTATIONS IN DISCHARGE PLANN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Theory and Strengths Perspective Informed Discharge Trainings Impact on Low Socioeconomic Status Patients’ Recovery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hleen Sulliv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ed Heart University, School of Social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2"/>
          <p:cNvSpPr/>
          <p:nvPr/>
        </p:nvSpPr>
        <p:spPr>
          <a:xfrm>
            <a:off x="11945880" y="5219640"/>
            <a:ext cx="10591920" cy="9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opulation: Health care providers in NYC hospi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Population: Health care providers on the surgical unit in NYC hospi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ing Frame: Health care providers from Mount Sinai’s surgical uni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sample size would be 50% of health care providers in the un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opulation: Low-SES patients after being discharged from the hospital in NY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Population: Low- SES patients after being discharged from surgical unit in NY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ing Frame:  Low- SES patients after being discharged from Mount Sinai’s surgical un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deal sample would be 200 patients cared for by participating provid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7"/>
          <p:cNvSpPr/>
          <p:nvPr/>
        </p:nvSpPr>
        <p:spPr>
          <a:xfrm>
            <a:off x="22782240" y="16333920"/>
            <a:ext cx="124236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1724040" y="4235400"/>
            <a:ext cx="944892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2763440" y="15918840"/>
            <a:ext cx="8686800" cy="13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omponent Intervention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care providers on the surgical unit at Mount Sinai will participate in and complete five one-hour trainings on the empowerment theory and strengths perspective informed approach to post-hospital transition. This shall take place over the course of a month. Trainings will be held in person with a virtual option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e and posttest will be administered before and after all five trainings are complet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ays after patients are discharged, an evaluation of their status of health will be determined via chart review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ays after patients are discharged patients will receive a survey to speak on their discharge planning and post hospital transition experience that can be used to inform the training and educational mate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736640" y="21521880"/>
            <a:ext cx="908064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&amp; 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1573200" y="22653720"/>
            <a:ext cx="906768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empowerment theory and strengths perspective informed discharge training for health care providers improve a patient’s ability to recover post hospital transi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theory and strengths perspective informed discharge training for health care providers will result in a change of the patient’s ability to recover post hospital tran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32499360" y="17176680"/>
            <a:ext cx="29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5"/>
          <p:cNvSpPr/>
          <p:nvPr/>
        </p:nvSpPr>
        <p:spPr>
          <a:xfrm>
            <a:off x="0" y="457200"/>
            <a:ext cx="36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0"/>
          <p:cNvSpPr/>
          <p:nvPr/>
        </p:nvSpPr>
        <p:spPr>
          <a:xfrm>
            <a:off x="0" y="762120"/>
            <a:ext cx="36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0"/>
          <p:cNvSpPr/>
          <p:nvPr/>
        </p:nvSpPr>
        <p:spPr>
          <a:xfrm>
            <a:off x="0" y="0"/>
            <a:ext cx="3657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6"/>
          <p:cNvSpPr/>
          <p:nvPr/>
        </p:nvSpPr>
        <p:spPr>
          <a:xfrm>
            <a:off x="0" y="0"/>
            <a:ext cx="3657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7"/>
          <p:cNvSpPr/>
          <p:nvPr/>
        </p:nvSpPr>
        <p:spPr>
          <a:xfrm>
            <a:off x="0" y="3228840"/>
            <a:ext cx="3657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3622120" y="15087600"/>
            <a:ext cx="118872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marL="220680" indent="-220680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1736640" y="5603760"/>
            <a:ext cx="9448920" cy="15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a decreased access to healthcare, resources that assist in the recovery process, the ability to take time off work, and the increased stress from financial burdens of hospital bills, low-socioeconomic status (SES) patients are at a higher risk of decline in health outcomes post-hospital transition. Research documents that disparities in recovery coincides with a patient’s economic status. Discharge plans established are consistently unrealistic. Many patients expressed their original discharge goals set them up for failure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educational materials are needed to address the poorer health outcomes in low-SES patients. Empowerment theory and strengths perspective best inform the trainings by encouraging health care providers assist their patients in feeling supported, which results in a higher chance of positive change. Focusing on a patient’s strengths individualizes their care, resulting in a discharge plan and post hospital transition that is centered on what they can realistically accomplish. Patients feel more involved with their care and no longer intimidated or powerles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2692160" y="4172040"/>
            <a:ext cx="944856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2517560" y="14486040"/>
            <a:ext cx="944856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1430000" y="18368280"/>
            <a:ext cx="48006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23622120" y="18248400"/>
            <a:ext cx="9877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ample size (n=200)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constraint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 Pandemi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Stigm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bilit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3547240" y="10080720"/>
            <a:ext cx="9448920" cy="62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Work Implic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for discharge training and plann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quality of care and patients staying healthier and alive long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unnecessary financial burdens brought on by unfeasible discharge planning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Researc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ests training to address poorer health outcomes in low-SES patien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 communit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"/>
          <p:cNvPicPr/>
          <p:nvPr/>
        </p:nvPicPr>
        <p:blipFill>
          <a:blip r:embed="rId1"/>
          <a:stretch/>
        </p:blipFill>
        <p:spPr>
          <a:xfrm>
            <a:off x="76320" y="203040"/>
            <a:ext cx="7696080" cy="2082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23325120" y="4213080"/>
            <a:ext cx="952488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23317200" y="5288040"/>
            <a:ext cx="94489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made surve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rt Scal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existing recor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3447520" y="8751960"/>
            <a:ext cx="944856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23447520" y="16784640"/>
            <a:ext cx="9448560" cy="975600"/>
          </a:xfrm>
          <a:prstGeom prst="rect">
            <a:avLst/>
          </a:prstGeom>
          <a:solidFill>
            <a:srgbClr val="558ed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365760" tIns="182880" bIns="18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IONS AND CHALLENG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5:58:45Z</dcterms:created>
  <dc:creator>Angela Curl</dc:creator>
  <dc:description/>
  <dc:language>en-US</dc:language>
  <cp:lastModifiedBy>Sullivan, Kathleen M.</cp:lastModifiedBy>
  <dcterms:modified xsi:type="dcterms:W3CDTF">2020-12-02T13:21:40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5BA94BA0E7AF642A195F7E309978A42</vt:lpwstr>
  </property>
</Properties>
</file>