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67B-2CFD-4A73-8C85-6B6BDF11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5C6-0BB6-4581-83CA-278245F2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47784-5375-4EF3-9C14-B6772B2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D979B-12C5-4484-9796-1CF3F2CF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61897-8E1A-495B-8A64-7125D870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904C6-1F36-4F99-9984-DAFE569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1DB5B-2601-46B9-B9CD-03ED735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32D2C-1FD4-4E75-A6AF-D8E5036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5D6DC-5D54-4F4B-9EB4-0B23F6B1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AC831-F727-4DD1-8FE4-2EF4C8C0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E99A3-2DA3-411C-8CD4-6744FFA7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439-9241-4E19-A106-FDBA225C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3E6-FCB9-4783-90A6-DF8C3664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FDC6-00BA-42F2-9611-A5A39605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1CA-92A2-4BC6-A792-DEBE788F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E22E-CFB0-4915-BE8F-B5AC7523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40B9-880F-4DF4-96AF-742FFE15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15AF-A2A9-4D0F-BEEC-B03E425D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004C-4CEB-47C0-AEAB-A6BAB03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A004-20C3-4E58-B2B5-BAC3743C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D55-C01F-4C34-9934-3333A7B1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93F2-2EE9-48C9-AD5F-C37FE07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8622-1E13-49FE-A745-4084CAC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928-55C0-49ED-A319-4EC37033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A65-9D47-418A-9C06-5733AE28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07CB-4271-4EC9-82E0-092EED97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537B-A76C-430F-9F85-2B1E08CF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F4AF-9480-4826-A80B-4FA7A705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B9C4-61A8-4031-9B09-228C94AB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9280-3E0B-4D31-A5A7-CCC29E94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C8BD-6C68-4600-912F-80FF1100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99A-1932-4544-8CE7-5BA24AE9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4E9B-4888-44E6-AD42-C9F5C4F1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7006-64FB-470A-859B-78138A5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CC8F-11E3-441F-B451-9F3A495B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C7A9-3105-4ED2-B0EC-D206166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4FB8-4EB5-46E0-B12D-C3ABE5E1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1812-B1F2-4B8E-A20E-D8715C49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8A04-1F37-4484-B5EA-19F85935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D3A3-A403-4646-8ACC-3AF18C36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8CD8-13E4-49A0-8486-397A2C50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313C-9005-4103-BDF5-77E99BB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BB7-1FF1-4B40-9C52-A897C019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F1EF-2060-41F4-9964-AEE6C69F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E0D0-834B-4DEE-A168-B7101773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089A-0822-4180-9120-D144B1B5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BEA21-5D5B-4DAA-ACF4-DF43C89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C136-6928-493B-95B4-BA024EBC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5875-B68A-4572-92C3-A563E3BF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7BC6-948D-4D16-913F-74B9FB5F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B9B8-2121-4D55-9476-098E319B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9A6F-2C43-4B9D-9FFD-DE65CC57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0470-3F16-4091-8D6A-8A2C6C36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749-97B2-41FD-B5E1-AA537C32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CE897-BFFF-4DC9-B53D-D59CCB07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7108-7630-4E8C-B415-43F7E783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46E0-38FA-4422-883E-56423B90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B20B3-596E-4266-B570-FC7A334B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8B59-2304-484B-BA5E-3FC05520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A02C-0876-4B51-A61B-CF0B89D2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6C82-B859-4459-941A-BB038FC2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B851-C1F2-48C8-84B5-6FFD5CB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7AA1-17ED-4A8F-8FEA-145725A8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7C38-4BDA-4609-B2A2-6468E734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1E5-50FC-49B9-91DE-23EB7424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9E2AC-CBD8-4AC9-87A6-26A6F575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BE273-D735-4548-9F25-036CF208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5685-E4B6-4DE2-BD9A-56A8761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14B9-21DD-46BF-9C06-56E2008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DB32-E7B5-456F-B866-AAE261AD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97C9A-235A-4C2A-AD3B-41EB90B4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AB15-7756-4567-9758-848EC194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2EC81-625C-4580-9F46-AE63524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761B1-BFA9-4BA6-BB9C-FC18D801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51F25-ECA8-4130-850D-1972399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39C-0748-472D-BD3E-577056E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99F7C-D2C6-45C4-B071-98F99B5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8A43-511B-481F-B77D-8E79AED4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5DCC9-DA41-4376-99C5-1187F896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348CC-2A4F-4BA8-9C6D-7A0FD7E6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F98E9-AD3D-4968-8425-5ED89B39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8AB81-A203-4CE3-BB34-1EA6AE5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87946-1A64-4F08-B35F-CB7FE0ED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0C67A-F340-443C-B8DD-663A5D0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26BA-B2AD-4D6F-B366-0319C580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CC0C2-1CA9-4BFB-AFB0-0C49C4F2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565-8A09-4327-ADC0-3DD99217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D3F1-0C88-4B6F-B2DC-8687F869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E0F6-A994-44C3-8345-D18C63B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F7ECE-A302-4E7D-8B50-EDD2F49B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490D5-0898-479C-A9F2-583E8AC2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5995-5B62-43C4-9AAC-A9F5B73A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A0B9A-F696-4B43-8AAE-737BB9F6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5D478-78BC-4F84-8CE8-427760D5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3912A-6B97-47B9-86D2-2630638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4A45C-4154-4B0C-9283-010F92F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56BA6-10C1-473D-9C33-0ECD7446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9A8-03FA-4BCB-A61E-514FA76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0E90C-6747-4529-AA2C-F6557DEF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CB628-677E-4E9E-AE91-655FD48E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02C79-5850-41AF-B1B4-5E2B245D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4C4F-0612-4FE8-8972-CC0474A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DD8DF-06C2-4876-8066-5499CDD1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BD44-D490-43CF-9144-DF73419C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06E5F-3CA9-4558-92F3-9F86209B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2BA37-46D7-4341-8E73-112D6850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60F4A-F6D4-40C9-92A6-EB0CEFBC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65980-5AA5-4CF7-BCE2-EFBBF10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6D8-1E68-4323-84AE-A0C526351F4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" name="Picture 11" descr="IUG-2011-SF-logo-whitened.png"/>
          <p:cNvPicPr/>
          <p:nvPr/>
        </p:nvPicPr>
        <p:blipFill>
          <a:blip r:embed="rId3"/>
          <a:stretch/>
        </p:blipFill>
        <p:spPr>
          <a:xfrm>
            <a:off x="2701800" y="533520"/>
            <a:ext cx="356400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6D35-3516-4432-A31F-A32BDDDAF46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9" descr="IUG-2011-SF-logo-whitened.png"/>
          <p:cNvPicPr/>
          <p:nvPr/>
        </p:nvPicPr>
        <p:blipFill>
          <a:blip r:embed="rId3"/>
          <a:stretch/>
        </p:blipFill>
        <p:spPr>
          <a:xfrm>
            <a:off x="609480" y="5708520"/>
            <a:ext cx="2057400" cy="924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CBF7-08BE-4CA1-AE3E-409921AF4EA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1" name="Picture 11" descr="IUG-2011-SF-logo-whitened.png"/>
          <p:cNvPicPr/>
          <p:nvPr/>
        </p:nvPicPr>
        <p:blipFill>
          <a:blip r:embed="rId3"/>
          <a:stretch/>
        </p:blipFill>
        <p:spPr>
          <a:xfrm>
            <a:off x="533520" y="5638680"/>
            <a:ext cx="1904760" cy="855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41F8-FCC7-4561-8146-13E9EFF3863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7" name="Picture 9" descr="IUG-2011-SF-logo-whitened.png"/>
          <p:cNvPicPr/>
          <p:nvPr/>
        </p:nvPicPr>
        <p:blipFill>
          <a:blip r:embed="rId3"/>
          <a:stretch/>
        </p:blipFill>
        <p:spPr>
          <a:xfrm>
            <a:off x="609480" y="5708520"/>
            <a:ext cx="2057400" cy="9241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19A1-9987-4FE8-9DCA-7EF7A570560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10" descr="IUG-2011-SF-logo-whitened.png"/>
          <p:cNvPicPr/>
          <p:nvPr/>
        </p:nvPicPr>
        <p:blipFill>
          <a:blip r:embed="rId2"/>
          <a:stretch/>
        </p:blipFill>
        <p:spPr>
          <a:xfrm>
            <a:off x="609480" y="5562720"/>
            <a:ext cx="2057400" cy="923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8E7C-FA40-4137-89EA-6EFE5FF7DC2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76" name="Picture 9" descr="IUG-2011-SF-logo-whitened.png"/>
          <p:cNvPicPr/>
          <p:nvPr/>
        </p:nvPicPr>
        <p:blipFill>
          <a:blip r:embed="rId3"/>
          <a:stretch/>
        </p:blipFill>
        <p:spPr>
          <a:xfrm>
            <a:off x="609480" y="5708520"/>
            <a:ext cx="2057400" cy="924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25DB-C7F5-47C7-965E-3A8444DBCD3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11" descr="IUG-2011-SF-logo-whitened.png"/>
          <p:cNvPicPr/>
          <p:nvPr/>
        </p:nvPicPr>
        <p:blipFill>
          <a:blip r:embed="rId2"/>
          <a:stretch/>
        </p:blipFill>
        <p:spPr>
          <a:xfrm>
            <a:off x="609480" y="5562720"/>
            <a:ext cx="2057400" cy="9237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CDA9-7C76-4931-9B48-516E2F1E3F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9" descr="IUG-2011-SF-logo-whitened.png"/>
          <p:cNvPicPr/>
          <p:nvPr/>
        </p:nvPicPr>
        <p:blipFill>
          <a:blip r:embed="rId2"/>
          <a:stretch/>
        </p:blipFill>
        <p:spPr>
          <a:xfrm>
            <a:off x="609480" y="5708520"/>
            <a:ext cx="2057400" cy="924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D82E-7468-4F08-882B-5159081F270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ople.oregonstate.edu/~reeset/marcedit/html/downloads.html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425d"/>
                </a:solidFill>
                <a:latin typeface="Verdana"/>
              </a:rPr>
              <a:t>E-books in the Catalog: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762120" y="4266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6565"/>
                </a:solidFill>
                <a:latin typeface="Verdana"/>
              </a:rPr>
              <a:t>Managing MARC Records in Batch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25d"/>
                </a:solidFill>
                <a:latin typeface="Verdana"/>
              </a:rPr>
              <a:t>Bonnie Figgat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25d"/>
                </a:solidFill>
                <a:latin typeface="Verdana"/>
              </a:rPr>
              <a:t>Sacred Heart University Libr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25d"/>
                </a:solidFill>
                <a:latin typeface="Verdana"/>
              </a:rPr>
              <a:t>April 15 &amp; 16,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7621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ACLS Humanities E-book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03280" y="2133360"/>
            <a:ext cx="81835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From American Council of Learned Socie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Initial load of c.1400 MARC records in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(subscrip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Annual update of new titles (c.500/y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We do all custom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837720"/>
            <a:ext cx="8183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Credo Referen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03280" y="2133360"/>
            <a:ext cx="8183520" cy="327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Subscribed 2010 – loaded MARC records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c.500 reference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MARC records available from vendor site month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We do all custom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6858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Managing updat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03280" y="1828440"/>
            <a:ext cx="8183520" cy="3809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Monthly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ebrary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update inclu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New recor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Dele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Monthly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Credo Reference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update inclu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New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New editions (deletes need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Annual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ACLS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update inclu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New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609480"/>
            <a:ext cx="8183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Managing updat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3280" y="205704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MARC records retrieved from vendor’s site, through MarcEdit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Verdana"/>
              </a:rPr>
              <a:t>*MarcEdit is a free utility from Terry Reese at Oregon State University, available at:  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people.oregonstate.edu/~reeset/marcedit/html/downlo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Load to Millennium via  Data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95120" y="579096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Verdana"/>
              </a:rPr>
              <a:t>Download through MarcEdit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31" name="Content Placeholder 3" descr="credoref.JPG"/>
          <p:cNvPicPr/>
          <p:nvPr/>
        </p:nvPicPr>
        <p:blipFill>
          <a:blip r:embed="rId1"/>
          <a:stretch/>
        </p:blipFill>
        <p:spPr>
          <a:xfrm>
            <a:off x="1981080" y="204840"/>
            <a:ext cx="5867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83808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Managing updat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03280" y="1905120"/>
            <a:ext cx="8183520" cy="281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Customizing in MarcEd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Edit subfield: change message in 856|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Add field:      590  E-book (Credo Refere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Add field:      506 Available only to autho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                       </a:t>
            </a:r>
            <a:r>
              <a:rPr b="0" lang="en-US" sz="2400" spc="-1" strike="noStrike">
                <a:solidFill>
                  <a:srgbClr val="14425d"/>
                </a:solidFill>
                <a:latin typeface="Verdana"/>
              </a:rPr>
              <a:t>Sacred Heart University us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971440" y="55627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Verdana"/>
              </a:rPr>
              <a:t>Millennium Data Exchange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35" name="Content Placeholder 3" descr="dataexchange.JPG"/>
          <p:cNvPicPr/>
          <p:nvPr/>
        </p:nvPicPr>
        <p:blipFill>
          <a:blip r:embed="rId1"/>
          <a:stretch/>
        </p:blipFill>
        <p:spPr>
          <a:xfrm>
            <a:off x="1143000" y="533520"/>
            <a:ext cx="7281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68544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25d"/>
                </a:solidFill>
                <a:latin typeface="Verdana"/>
              </a:rPr>
              <a:t>Customizing Records in Millennium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03280" y="1904760"/>
            <a:ext cx="8183520" cy="3809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Deleting record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Enhancing info in 856|z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Single-user rest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Format (ma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76720" y="57909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25d"/>
                </a:solidFill>
                <a:latin typeface="Verdana"/>
              </a:rPr>
              <a:t>Deleting record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39" name="Content Placeholder 3" descr="review files.JPG"/>
          <p:cNvPicPr/>
          <p:nvPr/>
        </p:nvPicPr>
        <p:blipFill>
          <a:blip r:embed="rId1"/>
          <a:stretch/>
        </p:blipFill>
        <p:spPr>
          <a:xfrm>
            <a:off x="1295280" y="457200"/>
            <a:ext cx="684864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3280" y="761760"/>
            <a:ext cx="8183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Deleting reco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03280" y="1828800"/>
            <a:ext cx="8183520" cy="288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Create Lists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, choose an empty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Click on “Copy” at the top, find your file, and copy it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Open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Delete Records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on the lef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Open your review file in it and de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8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25d"/>
                </a:solidFill>
                <a:latin typeface="Verdana"/>
              </a:rPr>
              <a:t>Agenda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03280" y="12952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E-books at Sacred Heart Univer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          </a:t>
            </a: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Vendor 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Managing MARC record updates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14425d"/>
                </a:solidFill>
                <a:latin typeface="Verdana"/>
              </a:rPr>
              <a:t>Customizing MARC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3280" y="7617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25d"/>
                </a:solidFill>
                <a:latin typeface="Verdana"/>
              </a:rPr>
              <a:t>Enhancing 856|z: </a:t>
            </a:r>
            <a:br>
              <a:rPr sz="3200"/>
            </a:br>
            <a:r>
              <a:rPr b="1" lang="en-US" sz="3200" spc="-1" strike="noStrike">
                <a:solidFill>
                  <a:srgbClr val="14425d"/>
                </a:solidFill>
                <a:latin typeface="Verdana"/>
              </a:rPr>
              <a:t>single-user restrictio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03280" y="228564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In 2010, also began purchasing e-books from e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Single user (SUPO)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Multiple user (MUP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Add field: 590 E-book (ebrary purcha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7760" y="6019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Verdana"/>
              </a:rPr>
              <a:t>Single-user restriction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45" name="Content Placeholder 3" descr="ebraryoneuser.JPG"/>
          <p:cNvPicPr/>
          <p:nvPr/>
        </p:nvPicPr>
        <p:blipFill>
          <a:blip r:embed="rId1"/>
          <a:stretch/>
        </p:blipFill>
        <p:spPr>
          <a:xfrm>
            <a:off x="2133720" y="380880"/>
            <a:ext cx="541008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76720" y="57909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Verdana"/>
              </a:rPr>
              <a:t>Adding ‘one user at a time’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47" name="Content Placeholder 3" descr="ebraryoneuserglobal.JPG"/>
          <p:cNvPicPr/>
          <p:nvPr/>
        </p:nvPicPr>
        <p:blipFill>
          <a:blip r:embed="rId1"/>
          <a:stretch/>
        </p:blipFill>
        <p:spPr>
          <a:xfrm>
            <a:off x="685800" y="63360"/>
            <a:ext cx="79297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3280" y="205740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Enhancing 856|z:  format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503280" y="4419360"/>
            <a:ext cx="8183520" cy="1066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95120" y="60958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Verdana"/>
              </a:rPr>
              <a:t>Calling a map a book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51" name="Content Placeholder 5" descr="ebrarymapsrecord1.JPG"/>
          <p:cNvPicPr/>
          <p:nvPr/>
        </p:nvPicPr>
        <p:blipFill>
          <a:blip r:embed="rId1"/>
          <a:stretch/>
        </p:blipFill>
        <p:spPr>
          <a:xfrm>
            <a:off x="2209680" y="304920"/>
            <a:ext cx="5486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120" y="55627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Verdana"/>
              </a:rPr>
              <a:t>Create list for ebrary map records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53" name="Content Placeholder 3" descr="ebrarymaps.JPG"/>
          <p:cNvPicPr/>
          <p:nvPr/>
        </p:nvPicPr>
        <p:blipFill>
          <a:blip r:embed="rId1"/>
          <a:stretch/>
        </p:blipFill>
        <p:spPr>
          <a:xfrm>
            <a:off x="1752480" y="530280"/>
            <a:ext cx="60962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7760" y="57909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Verdana"/>
              </a:rPr>
              <a:t>Changing ‘book’ to ‘map’ in 856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55" name="Content Placeholder 3" descr="ebrarymaps856change.JPG"/>
          <p:cNvPicPr/>
          <p:nvPr/>
        </p:nvPicPr>
        <p:blipFill>
          <a:blip r:embed="rId1"/>
          <a:stretch/>
        </p:blipFill>
        <p:spPr>
          <a:xfrm>
            <a:off x="914400" y="228600"/>
            <a:ext cx="7554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52320" y="59436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Verdana"/>
              </a:rPr>
              <a:t>Calling a map a map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57" name="Content Placeholder 3" descr="ebrarymapsrecord2.JPG"/>
          <p:cNvPicPr/>
          <p:nvPr/>
        </p:nvPicPr>
        <p:blipFill>
          <a:blip r:embed="rId1"/>
          <a:stretch/>
        </p:blipFill>
        <p:spPr>
          <a:xfrm>
            <a:off x="2209680" y="228600"/>
            <a:ext cx="5410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18352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4425d"/>
                </a:solidFill>
                <a:latin typeface="Verdana"/>
              </a:rPr>
              <a:t>Thank you!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4038120"/>
            <a:ext cx="8183520" cy="381240"/>
          </a:xfrm>
          <a:prstGeom prst="rect">
            <a:avLst/>
          </a:prstGeom>
          <a:noFill/>
          <a:ln w="0">
            <a:noFill/>
          </a:ln>
        </p:spPr>
        <p:txBody>
          <a:bodyPr lIns="118800" rIns="90000" tIns="0" bIns="46800" anchor="t">
            <a:normAutofit fontScale="7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565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771f28"/>
                </a:solidFill>
                <a:latin typeface="Verdana"/>
              </a:rPr>
              <a:t>figgattb@sacredheart.e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25d"/>
                </a:solidFill>
                <a:latin typeface="Verdana"/>
              </a:rPr>
              <a:t>E-books in the </a:t>
            </a:r>
            <a:br>
              <a:rPr sz="3200"/>
            </a:br>
            <a:r>
              <a:rPr b="1" lang="en-US" sz="3200" spc="-1" strike="noStrike">
                <a:solidFill>
                  <a:srgbClr val="14425d"/>
                </a:solidFill>
                <a:latin typeface="Verdana"/>
              </a:rPr>
              <a:t>Sacred Heart University Library’s collectio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03280" y="2057400"/>
            <a:ext cx="8183520" cy="3581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208,000  titles in the cata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4425d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14425d"/>
                </a:solidFill>
                <a:latin typeface="Verdana"/>
              </a:rPr>
              <a:t>120,000 are print resourc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4425d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14425d"/>
                </a:solidFill>
                <a:latin typeface="Verdana"/>
              </a:rPr>
              <a:t>88,000 are electronic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26% of our titles are e-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E-books at SHU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03280" y="1142640"/>
            <a:ext cx="8183520" cy="518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E-books since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Catalog has been SHU’s primary discovery and access point for our e-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4425d"/>
                </a:solidFill>
                <a:latin typeface="Verdana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3280" y="6858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E-books at SHU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03280" y="1828800"/>
            <a:ext cx="8183520" cy="365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425d"/>
                </a:solidFill>
                <a:latin typeface="Verdana"/>
              </a:rPr>
              <a:t>Some purchases: packages or individual tit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425d"/>
                </a:solidFill>
                <a:latin typeface="Verdana"/>
              </a:rPr>
              <a:t>Some freely available e-books, individually catalo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Mostly via subscription with batch loads of vendor-supplied MARC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E-book MARC reco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03280" y="152352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Print and electronic versions on different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E-books from different vendors on different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856|z identifies it as a e-book for users – no item recor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71440" y="5943600"/>
            <a:ext cx="574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Arial"/>
                <a:ea typeface="Arial"/>
              </a:rPr>
              <a:t>E-book record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7" name="Content Placeholder 3" descr="botany of desire2.JPG"/>
          <p:cNvPicPr/>
          <p:nvPr/>
        </p:nvPicPr>
        <p:blipFill>
          <a:blip r:embed="rId1"/>
          <a:stretch/>
        </p:blipFill>
        <p:spPr>
          <a:xfrm>
            <a:off x="1884240" y="533520"/>
            <a:ext cx="5116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Vendor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3280" y="1981080"/>
            <a:ext cx="8183520" cy="365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e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AC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Credo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60948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25d"/>
                </a:solidFill>
                <a:latin typeface="Verdana"/>
              </a:rPr>
              <a:t>ebra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03280" y="1752480"/>
            <a:ext cx="8183520" cy="381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Initial load in 2007 of ebrary Academic Complete (subscrip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c.32,000 records </a:t>
            </a:r>
            <a:r>
              <a:rPr b="0" lang="en-US" sz="2800" spc="-1" strike="noStrike">
                <a:solidFill>
                  <a:srgbClr val="14425d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c.52,000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Some customization done by ebrary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  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ebr added to 00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          </a:t>
            </a:r>
            <a:r>
              <a:rPr b="0" lang="en-US" sz="2800" spc="-1" strike="noStrike">
                <a:solidFill>
                  <a:srgbClr val="14425d"/>
                </a:solidFill>
                <a:latin typeface="Verdana"/>
              </a:rPr>
              <a:t>proxy info added to 856|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2:29:28Z</dcterms:created>
  <dc:creator>afifarek</dc:creator>
  <dc:description/>
  <dc:language>en-US</dc:language>
  <cp:lastModifiedBy>figgattb</cp:lastModifiedBy>
  <dcterms:modified xsi:type="dcterms:W3CDTF">2011-04-11T19:58:17Z</dcterms:modified>
  <cp:revision>161</cp:revision>
  <dc:subject/>
  <dc:title>Slide 1</dc:title>
</cp:coreProperties>
</file>